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57.png" ContentType="image/png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7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8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23.png" ContentType="image/png"/>
  <Override PartName="/ppt/media/image120.wmf" ContentType="image/x-wmf"/>
  <Override PartName="/ppt/media/image69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15.png" ContentType="image/png"/>
  <Override PartName="/ppt/media/image61.wmf" ContentType="image/x-wmf"/>
  <Override PartName="/ppt/media/image60.wmf" ContentType="image/x-wmf"/>
  <Override PartName="/ppt/media/image94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13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90.wmf" ContentType="image/x-wmf"/>
  <Override PartName="/ppt/media/image22.wmf" ContentType="image/x-wmf"/>
  <Override PartName="/ppt/media/image67.png" ContentType="image/png"/>
  <Override PartName="/ppt/media/image134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88.wmf" ContentType="image/x-wmf"/>
  <Override PartName="/ppt/media/image20.png" ContentType="image/png"/>
  <Override PartName="/ppt/media/image83.wmf" ContentType="image/x-wmf"/>
  <Override PartName="/ppt/media/image15.wmf" ContentType="image/x-wmf"/>
  <Override PartName="/ppt/media/image18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2.png" ContentType="image/png"/>
  <Override PartName="/ppt/media/image214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4.png" ContentType="image/png"/>
  <Override PartName="/ppt/media/image156.png" ContentType="image/png"/>
  <Override PartName="/ppt/media/image216.wmf" ContentType="image/x-wmf"/>
  <Override PartName="/ppt/media/image109.wmf" ContentType="image/x-wmf"/>
  <Override PartName="/ppt/media/image177.wmf" ContentType="image/x-wmf"/>
  <Override PartName="/ppt/media/image100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5.png" ContentType="image/png"/>
  <Override PartName="/ppt/media/image217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3.png" ContentType="image/png"/>
  <Override PartName="/ppt/media/image155.png" ContentType="image/png"/>
  <Override PartName="/ppt/media/image167.wmf" ContentType="image/x-wmf"/>
  <Override PartName="/ppt/media/image168.wmf" ContentType="image/x-wmf"/>
  <Override PartName="/ppt/media/image169.wmf" ContentType="image/x-wmf"/>
  <Override PartName="/ppt/media/image130.wmf" ContentType="image/x-wmf"/>
  <Override PartName="/ppt/media/image178.wmf" ContentType="image/x-wmf"/>
  <Override PartName="/ppt/media/image179.wmf" ContentType="image/x-wmf"/>
  <Override PartName="/ppt/media/image140.wmf" ContentType="image/x-wmf"/>
  <Override PartName="/ppt/media/image254.wmf" ContentType="image/x-wmf"/>
  <Override PartName="/ppt/media/image192.png" ContentType="image/png"/>
  <Override PartName="/ppt/media/image252.wmf" ContentType="image/x-wmf"/>
  <Override PartName="/ppt/media/image198.wmf" ContentType="image/x-wmf"/>
  <Override PartName="/ppt/media/image36.wmf" ContentType="image/x-wmf"/>
  <Override PartName="/ppt/media/image199.wmf" ContentType="image/x-wmf"/>
  <Override PartName="/ppt/media/image203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89.wmf" ContentType="image/x-wmf"/>
  <Override PartName="/ppt/media/image205.wmf" ContentType="image/x-wmf"/>
  <Override PartName="/ppt/media/image207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46.wmf" ContentType="image/x-wmf"/>
  <Override PartName="/ppt/media/image141.wmf" ContentType="image/x-wmf"/>
  <Override PartName="/ppt/media/image210.wmf" ContentType="image/x-wmf"/>
  <Override PartName="/ppt/media/image54.wmf" ContentType="image/x-wmf"/>
  <Override PartName="/ppt/media/image97.png" ContentType="image/png"/>
  <Override PartName="/ppt/media/image247.wmf" ContentType="image/x-wmf"/>
  <Override PartName="/ppt/media/image245.wmf" ContentType="image/x-wmf"/>
  <Override PartName="/ppt/media/image185.png" ContentType="image/png"/>
  <Override PartName="/ppt/media/image142.wmf" ContentType="image/x-wmf"/>
  <Override PartName="/ppt/media/image211.wmf" ContentType="image/x-wmf"/>
  <Override PartName="/ppt/media/image55.wmf" ContentType="image/x-wmf"/>
  <Override PartName="/ppt/media/image248.wmf" ContentType="image/x-wmf"/>
  <Override PartName="/ppt/media/image143.wmf" ContentType="image/x-wmf"/>
  <Override PartName="/ppt/media/image208.wmf" ContentType="image/x-wmf"/>
  <Override PartName="/ppt/media/image250.wmf" ContentType="image/x-wmf"/>
  <Override PartName="/ppt/media/image212.wmf" ContentType="image/x-wmf"/>
  <Override PartName="/ppt/media/image56.wmf" ContentType="image/x-wmf"/>
  <Override PartName="/ppt/media/image249.wmf" ContentType="image/x-wmf"/>
  <Override PartName="/ppt/media/image144.wmf" ContentType="image/x-wmf"/>
  <Override PartName="/ppt/media/image209.wmf" ContentType="image/x-wmf"/>
  <Override PartName="/ppt/media/image251.wmf" ContentType="image/x-wmf"/>
  <Override PartName="/ppt/media/image253.wmf" ContentType="image/x-wmf"/>
  <Override PartName="/ppt/media/image242.wmf" ContentType="image/x-wmf"/>
  <Override PartName="/ppt/media/image243.wmf" ContentType="image/x-wmf"/>
  <Override PartName="/ppt/media/image255.wmf" ContentType="image/x-wmf"/>
  <Override PartName="/ppt/media/image150.wmf" ContentType="image/x-wmf"/>
  <Override PartName="/ppt/media/image244.wmf" ContentType="image/x-wmf"/>
  <Override PartName="/ppt/media/image256.wmf" ContentType="image/x-wmf"/>
  <Override PartName="/ppt/media/image151.wmf" ContentType="image/x-wmf"/>
  <Override PartName="/ppt/media/image241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240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235.wmf" ContentType="image/x-wmf"/>
  <Override PartName="/ppt/media/image175.png" ContentType="image/png"/>
  <Override PartName="/ppt/media/image132.wmf" ContentType="image/x-wmf"/>
  <Override PartName="/ppt/media/image236.wmf" ContentType="image/x-wmf"/>
  <Override PartName="/ppt/media/image131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29.wmf" ContentType="image/x-wmf"/>
  <Override PartName="/ppt/media/image230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2.wmf" ContentType="image/x-wmf"/>
  <Override PartName="/ppt/media/image166.wmf" ContentType="image/x-wmf"/>
  <Override PartName="/ppt/media/image165.wmf" ContentType="image/x-wmf"/>
  <Override PartName="/ppt/media/image164.png" ContentType="image/png"/>
  <Override PartName="/ppt/media/image224.wmf" ContentType="image/x-wmf"/>
  <Override PartName="/ppt/media/image163.wmf" ContentType="image/x-wmf"/>
  <Override PartName="/ppt/media/image162.wmf" ContentType="image/x-wmf"/>
  <Override PartName="/ppt/media/image161.wmf" ContentType="image/x-wmf"/>
  <Override PartName="/ppt/media/image139.png" ContentType="image/png"/>
  <Override PartName="/ppt/media/image160.wmf" ContentType="image/x-wmf"/>
  <Override PartName="/ppt/media/image158.wmf" ContentType="image/x-wmf"/>
  <Override PartName="/ppt/media/image157.wmf" ContentType="image/x-wmf"/>
  <Override PartName="/ppt/media/image154.wmf" ContentType="image/x-wmf"/>
  <Override PartName="/ppt/media/image129.png" ContentType="image/png"/>
  <Override PartName="/ppt/media/image197.png" ContentType="image/png"/>
  <Override PartName="/ppt/media/image152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96.wmf" ContentType="image/x-wmf"/>
  <Override PartName="/ppt/media/image128.wmf" ContentType="image/x-wmf"/>
  <Override PartName="/ppt/media/image206.png" ContentType="image/png"/>
  <Override PartName="/ppt/media/image53.wmf" ContentType="image/x-wmf"/>
  <Override PartName="/ppt/media/image43.wmf" ContentType="image/x-wmf"/>
  <Override PartName="/ppt/media/image86.png" ContentType="image/png"/>
  <Override PartName="/ppt/media/image153.wmf" ContentType="image/x-wmf"/>
  <Override PartName="/ppt/media/image42.wmf" ContentType="image/x-wmf"/>
  <Override PartName="/ppt/media/image6.png" ContentType="image/png"/>
  <Override PartName="/ppt/media/image218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195.wmf" ContentType="image/x-wmf"/>
  <Override PartName="/ppt/media/image127.wmf" ContentType="image/x-wmf"/>
  <Override PartName="/ppt/media/image232.png" ContentType="image/png"/>
  <Override PartName="/ppt/media/image11.wmf" ContentType="image/x-wmf"/>
  <Override PartName="/ppt/media/image108.wmf" ContentType="image/x-wmf"/>
  <Override PartName="/ppt/media/image17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DEE-5F47-4BAE-9202-C682B7E5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7FB-DC82-4E80-8B28-7B28F755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B74-83FF-4A9F-B700-E2E628DD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59E-8125-493B-8119-86B2DFC9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959-2201-48B4-A688-9A45078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8FB-119B-4EA2-A929-233DF589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9CA-C328-49C5-90EA-C308178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7CF-F814-484A-993A-9B85758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685-395C-440C-B299-AB8B2E9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748-F3DD-44F9-A7AC-041CDC8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B6F-9C90-445B-AE17-EC76453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8F1-48C3-4A33-8D2D-D448573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64CD-FC73-4143-8B01-DC593D589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5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66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6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7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75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76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8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8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8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5.wmf"/><Relationship Id="rId26" Type="http://schemas.openxmlformats.org/officeDocument/2006/relationships/hyperlink" Target="file:///tmp/home/.config/libreoffice/4/user/gallery/MagicStars.wav" TargetMode="External"/><Relationship Id="rId27" Type="http://schemas.openxmlformats.org/officeDocument/2006/relationships/image" Target="../media/image86.png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0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2.wmf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9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95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96.wmf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9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04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0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0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07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0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1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12.wmf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1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19.wmf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0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21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2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2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24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5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6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127.wm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8.wmf"/><Relationship Id="rId10" Type="http://schemas.openxmlformats.org/officeDocument/2006/relationships/image" Target="../media/image12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31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3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35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36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37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38.wmf"/><Relationship Id="rId29" Type="http://schemas.openxmlformats.org/officeDocument/2006/relationships/hyperlink" Target="file:///tmp/home/.config/libreoffice/4/user/gallery/MagicStars.wav" TargetMode="External"/><Relationship Id="rId30" Type="http://schemas.openxmlformats.org/officeDocument/2006/relationships/image" Target="../media/image86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MagicStar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39.png"/><Relationship Id="rId8" Type="http://schemas.openxmlformats.org/officeDocument/2006/relationships/image" Target="../media/image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4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4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44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4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46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47.wmf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5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54.wmf"/><Relationship Id="rId2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55.png"/><Relationship Id="rId8" Type="http://schemas.openxmlformats.org/officeDocument/2006/relationships/image" Target="../media/image156.png"/><Relationship Id="rId9" Type="http://schemas.openxmlformats.org/officeDocument/2006/relationships/image" Target="../media/image3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57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58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159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160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161.wmf"/><Relationship Id="rId20" Type="http://schemas.openxmlformats.org/officeDocument/2006/relationships/oleObject" Target="../embeddings/oleObject6.bin"/><Relationship Id="rId21" Type="http://schemas.openxmlformats.org/officeDocument/2006/relationships/image" Target="../media/image162.wmf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3.wmf"/><Relationship Id="rId9" Type="http://schemas.openxmlformats.org/officeDocument/2006/relationships/image" Target="../media/image164.png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70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71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72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73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174.wmf"/><Relationship Id="rId3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7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77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5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78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79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80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181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82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183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184.wmf"/><Relationship Id="rId2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8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86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8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60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5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8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9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91.wmf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19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9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94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95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9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9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98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99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00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01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02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03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04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05.wmf"/><Relationship Id="rId2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0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0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0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1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1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14.wmf"/><Relationship Id="rId2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1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1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7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18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19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20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21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22.wmf"/><Relationship Id="rId2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23.png"/><Relationship Id="rId8" Type="http://schemas.openxmlformats.org/officeDocument/2006/relationships/image" Target="../media/image22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24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2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27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2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29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30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31.wmf"/><Relationship Id="rId2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3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3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23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23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3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24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24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24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243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244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245.wmf"/><Relationship Id="rId3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TingBell3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5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56.wmf"/><Relationship Id="rId24" Type="http://schemas.openxmlformats.org/officeDocument/2006/relationships/hyperlink" Target="file:///tmp/home/.config/libreoffice/4/user/gallery/TingBell3.wav" TargetMode="External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ingBell3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MagicStar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TingBell3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9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TingBell3.wav" TargetMode="External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30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32.wmf"/><Relationship Id="rId33" Type="http://schemas.openxmlformats.org/officeDocument/2006/relationships/oleObject" Target="../embeddings/oleObject13.bin"/><Relationship Id="rId34" Type="http://schemas.openxmlformats.org/officeDocument/2006/relationships/image" Target="../media/image33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file:///tmp/home/.config/libreoffice/4/user/gallery/TingBell3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TingBell3.wav" TargetMode="External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3.wmf"/><Relationship Id="rId27" Type="http://schemas.openxmlformats.org/officeDocument/2006/relationships/oleObject" Target="../embeddings/oleObject10.bin"/><Relationship Id="rId28" Type="http://schemas.openxmlformats.org/officeDocument/2006/relationships/image" Target="../media/image44.wmf"/><Relationship Id="rId29" Type="http://schemas.openxmlformats.org/officeDocument/2006/relationships/oleObject" Target="../embeddings/oleObject11.bin"/><Relationship Id="rId30" Type="http://schemas.openxmlformats.org/officeDocument/2006/relationships/image" Target="../media/image45.wmf"/><Relationship Id="rId31" Type="http://schemas.openxmlformats.org/officeDocument/2006/relationships/oleObject" Target="../embeddings/oleObject12.bin"/><Relationship Id="rId32" Type="http://schemas.openxmlformats.org/officeDocument/2006/relationships/image" Target="../media/image46.wmf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TingBell3.wav" TargetMode="External"/><Relationship Id="rId5" Type="http://schemas.openxmlformats.org/officeDocument/2006/relationships/image" Target="../media/image6.png"/><Relationship Id="rId6" Type="http://schemas.openxmlformats.org/officeDocument/2006/relationships/hyperlink" Target="file:///tmp/home/.config/libreoffice/4/user/gallery/TingBell3.wav" TargetMode="External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9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0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51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52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53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54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55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56.wm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01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400" y="3857760"/>
            <a:ext cx="7732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096400" cy="42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3840" y="618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ck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54338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7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618240" y="49957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6380280" y="919080"/>
            <a:ext cx="2354040" cy="1906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79720" y="1067400"/>
            <a:ext cx="59306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agram shows a point P with co-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, 2, 6) and two points S and T which lie on the x-ax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 is 7 units from S and 7 units from T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-ordinates of S and 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8280" y="2811600"/>
            <a:ext cx="212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distance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938320" y="2811600"/>
          <a:ext cx="912960" cy="30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8320" y="2811600"/>
                    <a:ext cx="9129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157640" y="2797200"/>
          <a:ext cx="89388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57640" y="2797200"/>
                    <a:ext cx="893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52400" y="3394080"/>
          <a:ext cx="267984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00" y="3394080"/>
                    <a:ext cx="26798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932280" y="3365640"/>
          <a:ext cx="2039760" cy="34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2280" y="3365640"/>
                    <a:ext cx="2039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6531120" y="3365640"/>
          <a:ext cx="1457280" cy="34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1120" y="3365640"/>
                    <a:ext cx="14572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853920" y="4083120"/>
          <a:ext cx="1224000" cy="304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53920" y="4083120"/>
                    <a:ext cx="1224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43120" y="4040280"/>
          <a:ext cx="182736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43120" y="4040280"/>
                    <a:ext cx="1827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30640" y="4486320"/>
            <a:ext cx="63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 there ar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 points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on the x axis that are 7 units from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424240" y="5100480"/>
          <a:ext cx="1139760" cy="40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24240" y="5100480"/>
                    <a:ext cx="1139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021280" y="5072040"/>
          <a:ext cx="1217520" cy="406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21280" y="5072040"/>
                    <a:ext cx="1217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7062120" y="44942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.e.    S  and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5600" y="5051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4960" y="879840"/>
            <a:ext cx="4651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on vectors of the points P and Q a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iv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  Express           in component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  Find the length of PQ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939000" y="4981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6445080" y="882720"/>
            <a:ext cx="2294280" cy="20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1684440" y="1682640"/>
          <a:ext cx="376200" cy="34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84440" y="1682640"/>
                    <a:ext cx="3762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006560" y="3186000"/>
          <a:ext cx="1369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06560" y="3186000"/>
                    <a:ext cx="1369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46360" y="2917800"/>
          <a:ext cx="2317680" cy="109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6360" y="2917800"/>
                    <a:ext cx="23176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32720" y="3222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110200" y="2917800"/>
          <a:ext cx="1693800" cy="1095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0200" y="2917800"/>
                    <a:ext cx="1693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6883560" y="3249720"/>
          <a:ext cx="174600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83560" y="3249720"/>
                    <a:ext cx="17460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065240" y="4290840"/>
          <a:ext cx="2789280" cy="624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65240" y="4290840"/>
                    <a:ext cx="278928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432000" y="4402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067280" y="4378320"/>
          <a:ext cx="1743120" cy="44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4378320"/>
                    <a:ext cx="1743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067440" y="4378320"/>
          <a:ext cx="822240" cy="449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7440" y="4378320"/>
                    <a:ext cx="822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169040" y="4427640"/>
          <a:ext cx="473040" cy="349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69040" y="4427640"/>
                    <a:ext cx="4730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7402680" y="5038560"/>
            <a:ext cx="618840" cy="61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51720" y="895680"/>
            <a:ext cx="48229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QR is an equilateral triangle of side 2 un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e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and hence iden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vectors which are perpend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36680" y="1308240"/>
          <a:ext cx="3181320" cy="38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680" y="1308240"/>
                    <a:ext cx="31813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98600" y="2593800"/>
          <a:ext cx="273528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8600" y="2593800"/>
                    <a:ext cx="2735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61880" y="3218040"/>
          <a:ext cx="2573280" cy="541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1880" y="3218040"/>
                    <a:ext cx="2573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228840" y="3103560"/>
          <a:ext cx="2600640" cy="677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28840" y="3103560"/>
                    <a:ext cx="26006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6326280" y="3225960"/>
          <a:ext cx="173340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326280" y="3225960"/>
                    <a:ext cx="17334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5001840" y="187308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231960" y="808200"/>
            <a:ext cx="2215440" cy="2190960"/>
            <a:chOff x="6231960" y="808200"/>
            <a:chExt cx="2215440" cy="2190960"/>
          </a:xfrm>
        </p:grpSpPr>
        <p:grpSp>
          <p:nvGrpSpPr>
            <p:cNvPr id="366" name=""/>
            <p:cNvGrpSpPr/>
            <p:nvPr/>
          </p:nvGrpSpPr>
          <p:grpSpPr>
            <a:xfrm>
              <a:off x="6231960" y="808200"/>
              <a:ext cx="2215440" cy="1955520"/>
              <a:chOff x="6231960" y="808200"/>
              <a:chExt cx="2215440" cy="19555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59480" y="1131840"/>
                <a:ext cx="1757520" cy="14526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67320" y="80820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2160" y="248904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31960" y="2444760"/>
                <a:ext cx="17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50080" y="1189080"/>
                <a:ext cx="450720" cy="755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56600" y="1173240"/>
                <a:ext cx="463320" cy="770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58040" y="2595600"/>
                <a:ext cx="9126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7160" y="226836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67640" y="226836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169040" y="1393920"/>
                <a:ext cx="32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imes New Roman"/>
                  </a:rPr>
                  <a:t>6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647760" y="1535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84360" y="1535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4600" y="269388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87440" y="3860640"/>
            <a:ext cx="6900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B for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a.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vectors must point OUT of the vertex   ( so angle is 120°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82760" y="4435560"/>
          <a:ext cx="2681280" cy="541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2760" y="4435560"/>
                    <a:ext cx="2681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141720" y="4322880"/>
          <a:ext cx="2951280" cy="70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41720" y="4322880"/>
                    <a:ext cx="29512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264360" y="4449600"/>
          <a:ext cx="1976400" cy="433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264360" y="4449600"/>
                    <a:ext cx="1976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89680" y="5141880"/>
            <a:ext cx="83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22600" y="5103720"/>
          <a:ext cx="167796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722600" y="5103720"/>
                    <a:ext cx="1677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3624840" y="507852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o,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is perpendicular to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 +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22640" y="5751360"/>
            <a:ext cx="1415880" cy="948960"/>
            <a:chOff x="2222640" y="5751360"/>
            <a:chExt cx="1415880" cy="948960"/>
          </a:xfrm>
        </p:grpSpPr>
        <p:pic>
          <p:nvPicPr>
            <p:cNvPr id="392" name="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2711520" y="5751360"/>
              <a:ext cx="4064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222640" y="6119640"/>
              <a:ext cx="141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able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Exact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818400" y="35290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7240" y="1083240"/>
            <a:ext cx="50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length of the vector 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897200" y="1838160"/>
          <a:ext cx="2647800" cy="72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97200" y="1838160"/>
                    <a:ext cx="2647800" cy="7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04160" y="1996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970520" y="1925640"/>
          <a:ext cx="1893960" cy="523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70520" y="1925640"/>
                    <a:ext cx="1893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364000" y="2820960"/>
          <a:ext cx="1106640" cy="523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2820960"/>
                    <a:ext cx="1106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567400" y="3632040"/>
          <a:ext cx="698400" cy="40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67400" y="3632040"/>
                    <a:ext cx="698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8840" y="1199160"/>
            <a:ext cx="82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 of  k  for which the vectors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           are perpendi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865760" y="992160"/>
          <a:ext cx="48240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5760" y="992160"/>
                    <a:ext cx="4824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3382560" y="359820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018120" y="998640"/>
          <a:ext cx="544680" cy="90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8120" y="998640"/>
                    <a:ext cx="5446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3382920" y="4355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6183360" y="459756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97880" y="2592360"/>
            <a:ext cx="2655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687840" y="2187720"/>
          <a:ext cx="1714320" cy="119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87840" y="2187720"/>
                    <a:ext cx="17143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1320840" y="3819600"/>
          <a:ext cx="253044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20840" y="3819600"/>
                    <a:ext cx="2530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4165560" y="4632480"/>
          <a:ext cx="127944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5560" y="4632480"/>
                    <a:ext cx="12794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465880" y="3819600"/>
          <a:ext cx="203976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65880" y="3819600"/>
                    <a:ext cx="2039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894360" y="50976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2280" y="1069200"/>
            <a:ext cx="606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s the point (2, –1, 4), B is (7, 1, 3) and C is (–6, 4, 2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BCD is a parallelogram, find the co-ordinates of 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8"/>
          <a:stretch/>
        </p:blipFill>
        <p:spPr>
          <a:xfrm>
            <a:off x="6380280" y="963720"/>
            <a:ext cx="2359080" cy="125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3" name=""/>
          <p:cNvGraphicFramePr/>
          <p:nvPr/>
        </p:nvGraphicFramePr>
        <p:xfrm>
          <a:off x="457200" y="2622600"/>
          <a:ext cx="2305080" cy="46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2622600"/>
                    <a:ext cx="23050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3343320" y="2311560"/>
          <a:ext cx="205884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3320" y="2311560"/>
                    <a:ext cx="20588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060960" y="2311560"/>
          <a:ext cx="1509840" cy="120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60960" y="2311560"/>
                    <a:ext cx="15098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369720" y="3649680"/>
            <a:ext cx="4119120" cy="479880"/>
            <a:chOff x="369720" y="3649680"/>
            <a:chExt cx="4119120" cy="479880"/>
          </a:xfrm>
        </p:grpSpPr>
        <p:sp>
          <p:nvSpPr>
            <p:cNvPr id="470" name=""/>
            <p:cNvSpPr/>
            <p:nvPr/>
          </p:nvSpPr>
          <p:spPr>
            <a:xfrm>
              <a:off x="369720" y="3703680"/>
              <a:ext cx="23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D is the 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1" name=""/>
            <p:cNvGraphicFramePr/>
            <p:nvPr/>
          </p:nvGraphicFramePr>
          <p:xfrm>
            <a:off x="2825640" y="3649680"/>
            <a:ext cx="576360" cy="439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5640" y="3649680"/>
                      <a:ext cx="5763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3" name=""/>
            <p:cNvSpPr/>
            <p:nvPr/>
          </p:nvSpPr>
          <p:spPr>
            <a:xfrm>
              <a:off x="3562920" y="37306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from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73680" y="47386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344600" y="4371840"/>
          <a:ext cx="2031840" cy="120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44600" y="4371840"/>
                    <a:ext cx="203184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813120" y="4371840"/>
          <a:ext cx="1236600" cy="120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13120" y="4371840"/>
                    <a:ext cx="12366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5378400" y="4640400"/>
          <a:ext cx="2414520" cy="54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78400" y="4640400"/>
                    <a:ext cx="2414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6183360" y="51246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24720" y="1024200"/>
            <a:ext cx="7726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               write down the components of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show that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perpend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09560" y="816120"/>
          <a:ext cx="889200" cy="87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560" y="816120"/>
                    <a:ext cx="8892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089080" y="811080"/>
          <a:ext cx="866880" cy="86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89080" y="811080"/>
                    <a:ext cx="8668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3070080" y="4150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71680" y="2227320"/>
          <a:ext cx="1434960" cy="110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1680" y="2227320"/>
                    <a:ext cx="14349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3132000" y="2227320"/>
          <a:ext cx="1452600" cy="112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32000" y="2227320"/>
                    <a:ext cx="1452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468360" y="3438360"/>
          <a:ext cx="3168720" cy="109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8360" y="3438360"/>
                    <a:ext cx="3168720" cy="10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5491080" y="2570040"/>
            <a:ext cx="238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t scala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062240" y="3573360"/>
          <a:ext cx="460224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2240" y="3573360"/>
                    <a:ext cx="46022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180040" y="4680000"/>
          <a:ext cx="1376280" cy="349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80040" y="4680000"/>
                    <a:ext cx="1376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167600" y="4694400"/>
          <a:ext cx="476280" cy="349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167600" y="4694400"/>
                    <a:ext cx="476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1703880" y="525312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nce vectors are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687920" y="4937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95200" y="925200"/>
            <a:ext cx="794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vectors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re defined as follows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  Evaluate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.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.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  From your answer to part (a), make a deduction about the vector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63800" y="2671920"/>
          <a:ext cx="1746000" cy="1096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3800" y="2671920"/>
                    <a:ext cx="17460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72600" y="29923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171960" y="2962440"/>
          <a:ext cx="1720800" cy="398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71960" y="2962440"/>
                    <a:ext cx="17208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5630760" y="2962440"/>
          <a:ext cx="898560" cy="398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0760" y="2962440"/>
                    <a:ext cx="8985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014480" y="3830760"/>
          <a:ext cx="1846080" cy="109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14480" y="3830760"/>
                    <a:ext cx="1846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371880" y="51195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184560" y="4121280"/>
          <a:ext cx="1695240" cy="398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84560" y="4121280"/>
                    <a:ext cx="16952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5543640" y="4121280"/>
          <a:ext cx="1073160" cy="398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43640" y="4121280"/>
                    <a:ext cx="10731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7267680" y="4105440"/>
          <a:ext cx="1569960" cy="398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267680" y="4105440"/>
                    <a:ext cx="15699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1121040" y="5060880"/>
            <a:ext cx="31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 + 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s perpendicular t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6486480" y="48783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0480" y="910440"/>
            <a:ext cx="4722120" cy="1496520"/>
            <a:chOff x="330480" y="910440"/>
            <a:chExt cx="4722120" cy="1496520"/>
          </a:xfrm>
        </p:grpSpPr>
        <p:sp>
          <p:nvSpPr>
            <p:cNvPr id="560" name=""/>
            <p:cNvSpPr/>
            <p:nvPr/>
          </p:nvSpPr>
          <p:spPr>
            <a:xfrm>
              <a:off x="330480" y="910440"/>
              <a:ext cx="47221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is the point ( –3, 2, 4 ) and B is ( –1, 3, 2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nd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   the components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304920"/>
                  <a:tab algn="l" pos="609480"/>
                  <a:tab algn="l" pos="62485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the length of AB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1" name=""/>
            <p:cNvGraphicFramePr/>
            <p:nvPr/>
          </p:nvGraphicFramePr>
          <p:xfrm>
            <a:off x="2862360" y="1591920"/>
            <a:ext cx="428400" cy="333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62360" y="1591920"/>
                      <a:ext cx="4284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3" name=""/>
          <p:cNvGraphicFramePr/>
          <p:nvPr/>
        </p:nvGraphicFramePr>
        <p:xfrm>
          <a:off x="1174680" y="2781360"/>
          <a:ext cx="1509840" cy="46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74680" y="2781360"/>
                    <a:ext cx="15098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416880" y="28479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321000" y="2470320"/>
          <a:ext cx="2141640" cy="120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21000" y="2470320"/>
                    <a:ext cx="21416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6194520" y="2470320"/>
          <a:ext cx="1373040" cy="1207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94520" y="2470320"/>
                    <a:ext cx="137304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1030320" y="4052880"/>
          <a:ext cx="3073320" cy="631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30320" y="4052880"/>
                    <a:ext cx="30733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41616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4708440" y="4079880"/>
          <a:ext cx="2249640" cy="576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08440" y="4079880"/>
                    <a:ext cx="2249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2490840" y="4915080"/>
          <a:ext cx="1371600" cy="576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90840" y="4915080"/>
                    <a:ext cx="13716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4707000" y="4915080"/>
          <a:ext cx="1125360" cy="5475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707000" y="4915080"/>
                    <a:ext cx="1125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6210360" y="5095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1920" y="691200"/>
            <a:ext cx="4545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square based pyrami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eight edges are of length 3 units.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9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valuate   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22280" y="1528920"/>
          <a:ext cx="29354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2280" y="1528920"/>
                    <a:ext cx="29354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" descr=""/>
          <p:cNvPicPr/>
          <p:nvPr/>
        </p:nvPicPr>
        <p:blipFill>
          <a:blip r:embed="rId10"/>
          <a:stretch/>
        </p:blipFill>
        <p:spPr>
          <a:xfrm>
            <a:off x="5624640" y="836640"/>
            <a:ext cx="3058920" cy="24336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480960" y="2541600"/>
            <a:ext cx="36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ular faces are all equ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473040" y="3159000"/>
          <a:ext cx="287172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3040" y="3159000"/>
                    <a:ext cx="2871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506520" y="3803760"/>
          <a:ext cx="2573280" cy="54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6520" y="3803760"/>
                    <a:ext cx="2573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3379680" y="3691080"/>
          <a:ext cx="1949400" cy="67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79680" y="3691080"/>
                    <a:ext cx="19494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5859360" y="3675240"/>
          <a:ext cx="135432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59360" y="3675240"/>
                    <a:ext cx="1354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519120" y="4535640"/>
          <a:ext cx="2546280" cy="541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9120" y="4535640"/>
                    <a:ext cx="25462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392640" y="4422600"/>
          <a:ext cx="1922400" cy="676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92640" y="4422600"/>
                    <a:ext cx="19224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859360" y="4406760"/>
          <a:ext cx="1354320" cy="676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59360" y="4406760"/>
                    <a:ext cx="1354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66640" y="5194440"/>
          <a:ext cx="2683080" cy="677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6640" y="5194440"/>
                    <a:ext cx="2683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746520" y="5315040"/>
          <a:ext cx="1735200" cy="433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46520" y="5315040"/>
                    <a:ext cx="1735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7" name=""/>
          <p:cNvGrpSpPr/>
          <p:nvPr/>
        </p:nvGrpSpPr>
        <p:grpSpPr>
          <a:xfrm>
            <a:off x="2236680" y="5908680"/>
            <a:ext cx="1415880" cy="948960"/>
            <a:chOff x="2236680" y="5908680"/>
            <a:chExt cx="1415880" cy="948960"/>
          </a:xfrm>
        </p:grpSpPr>
        <p:pic>
          <p:nvPicPr>
            <p:cNvPr id="618" name="" descr="">
              <a:hlinkClick r:id="rId29"/>
            </p:cNvPr>
            <p:cNvPicPr/>
            <p:nvPr/>
          </p:nvPicPr>
          <p:blipFill>
            <a:blip r:embed="rId30"/>
            <a:stretch/>
          </p:blipFill>
          <p:spPr>
            <a:xfrm>
              <a:off x="2725560" y="5908680"/>
              <a:ext cx="4064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2236680" y="6276960"/>
              <a:ext cx="141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Table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Exact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8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9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questions ar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9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alculator questions will be ind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867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6720" y="3216240"/>
            <a:ext cx="747720" cy="100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36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a pencil, paper, ruler and rub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482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471760"/>
            <a:ext cx="914400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ints dividing lines in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inear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3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3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72360" y="49068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25440" y="966240"/>
            <a:ext cx="451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and B are the points (-1, -3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 (2, -1, 1) respecti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and C are the points of trisection of 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AB = BC = 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99072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ordinates of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7"/>
          <a:stretch/>
        </p:blipFill>
        <p:spPr>
          <a:xfrm>
            <a:off x="5400720" y="1028880"/>
            <a:ext cx="3219480" cy="1528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8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3" name=""/>
          <p:cNvGraphicFramePr/>
          <p:nvPr/>
        </p:nvGraphicFramePr>
        <p:xfrm>
          <a:off x="552600" y="2940120"/>
          <a:ext cx="1185840" cy="98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2600" y="2940120"/>
                    <a:ext cx="118584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2222640" y="3165480"/>
          <a:ext cx="203184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2640" y="3165480"/>
                    <a:ext cx="20318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5014800" y="3137040"/>
          <a:ext cx="2708280" cy="56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14800" y="3137040"/>
                    <a:ext cx="270828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555480" y="4178160"/>
          <a:ext cx="2567160" cy="4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5480" y="4178160"/>
                    <a:ext cx="25671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3728880" y="4178160"/>
          <a:ext cx="2116440" cy="452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8880" y="4178160"/>
                    <a:ext cx="21164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385920" y="4705200"/>
          <a:ext cx="264780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5920" y="4705200"/>
                    <a:ext cx="26478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3414600" y="4705200"/>
          <a:ext cx="1521000" cy="115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14600" y="4705200"/>
                    <a:ext cx="15210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5391000" y="5072040"/>
          <a:ext cx="1757520" cy="420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1000" y="5072040"/>
                    <a:ext cx="1757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670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99160" y="876960"/>
            <a:ext cx="808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 Q divides the line joining P(–1, –1, 0) to R(5, 2 –3) in the ratio 2: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co-ordinates of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7257960" y="4559400"/>
            <a:ext cx="6192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"/>
          <p:cNvGraphicFramePr/>
          <p:nvPr/>
        </p:nvGraphicFramePr>
        <p:xfrm>
          <a:off x="538200" y="2563920"/>
          <a:ext cx="1185840" cy="10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8200" y="2563920"/>
                    <a:ext cx="1185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208240" y="2817720"/>
          <a:ext cx="2031840" cy="53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8240" y="2817720"/>
                    <a:ext cx="20318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043600" y="2846520"/>
          <a:ext cx="2622600" cy="45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3600" y="2846520"/>
                    <a:ext cx="2622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4933800" y="3540240"/>
          <a:ext cx="211644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33800" y="3540240"/>
                    <a:ext cx="2116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396720" y="4357800"/>
          <a:ext cx="2595600" cy="1155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6720" y="4357800"/>
                    <a:ext cx="25956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3282840" y="4357800"/>
          <a:ext cx="1757520" cy="1155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82840" y="4357800"/>
                    <a:ext cx="17575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272200" y="4724280"/>
          <a:ext cx="1968480" cy="420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72200" y="4724280"/>
                    <a:ext cx="1968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3288960" y="1784520"/>
            <a:ext cx="1072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249880" y="1330200"/>
            <a:ext cx="2793240" cy="922320"/>
            <a:chOff x="5249880" y="1330200"/>
            <a:chExt cx="2793240" cy="922320"/>
          </a:xfrm>
        </p:grpSpPr>
        <p:sp>
          <p:nvSpPr>
            <p:cNvPr id="699" name=""/>
            <p:cNvSpPr/>
            <p:nvPr/>
          </p:nvSpPr>
          <p:spPr>
            <a:xfrm flipV="1">
              <a:off x="5457960" y="1684080"/>
              <a:ext cx="2322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84880" y="2133720"/>
              <a:ext cx="119160" cy="11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05800" y="1623960"/>
              <a:ext cx="11916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89600" y="1827360"/>
              <a:ext cx="119160" cy="11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49880" y="18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88080" y="1476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97880" y="133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02360" y="164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62560" y="1387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6719760" y="5981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13560" y="1019880"/>
            <a:ext cx="61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makers look along the tops of a set of T-rods to en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traight sections of road are being cre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suitable axes the top left corners of the T-rod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ints A(–8, –10, –2), B(–2, –1, 1) and C(6, 11, 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2001-1%20Q%201b" descr=""/>
          <p:cNvPicPr/>
          <p:nvPr/>
        </p:nvPicPr>
        <p:blipFill>
          <a:blip r:embed="rId7"/>
          <a:stretch/>
        </p:blipFill>
        <p:spPr>
          <a:xfrm>
            <a:off x="7159680" y="2400480"/>
            <a:ext cx="1492200" cy="1195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34800" y="2055600"/>
            <a:ext cx="64292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ether or not the section of road ABC has b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in a straight line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T-rod is placed such that D has co-ordinates (1, –4, 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at DB is perpendicular to A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7215120" y="808200"/>
            <a:ext cx="1541520" cy="14252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5" name=""/>
          <p:cNvGraphicFramePr/>
          <p:nvPr/>
        </p:nvGraphicFramePr>
        <p:xfrm>
          <a:off x="992160" y="3592440"/>
          <a:ext cx="1263600" cy="39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2160" y="35924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372600" y="3575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2470320" y="3325680"/>
          <a:ext cx="172224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70320" y="3325680"/>
                    <a:ext cx="1722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4451400" y="3354480"/>
          <a:ext cx="1835280" cy="101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51400" y="3354480"/>
                    <a:ext cx="1835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923760" y="4381560"/>
          <a:ext cx="1309680" cy="436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23760" y="4381560"/>
                    <a:ext cx="1309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2334960" y="443232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A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1880" y="49705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25560" y="5016600"/>
            <a:ext cx="1886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scala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033720" y="4776840"/>
          <a:ext cx="1998720" cy="1009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33720" y="4776840"/>
                    <a:ext cx="1998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5229360" y="5072040"/>
          <a:ext cx="2709720" cy="390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29360" y="5072040"/>
                    <a:ext cx="27097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5082480" y="554976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Hence, DB is perpendicular to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6561000" y="4892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76200" y="809280"/>
            <a:ext cx="494028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BCD is a pyramid with rectangular base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some appropriate ax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– 7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1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 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s        8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divides BC in the ratio  1: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            in component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758880" y="1389240"/>
          <a:ext cx="350640" cy="35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880" y="1389240"/>
                    <a:ext cx="350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7" name="" descr=""/>
          <p:cNvPicPr/>
          <p:nvPr/>
        </p:nvPicPr>
        <p:blipFill>
          <a:blip r:embed="rId9"/>
          <a:stretch/>
        </p:blipFill>
        <p:spPr>
          <a:xfrm>
            <a:off x="5740560" y="857160"/>
            <a:ext cx="2714400" cy="22654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0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9" name=""/>
          <p:cNvGraphicFramePr/>
          <p:nvPr/>
        </p:nvGraphicFramePr>
        <p:xfrm>
          <a:off x="728640" y="1735200"/>
          <a:ext cx="4129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8640" y="1735200"/>
                    <a:ext cx="412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717480" y="2070000"/>
          <a:ext cx="433440" cy="33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7480" y="2070000"/>
                    <a:ext cx="4334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1033560" y="2766960"/>
          <a:ext cx="39204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33560" y="2766960"/>
                    <a:ext cx="3920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 flipH="1">
            <a:off x="5951520" y="1117440"/>
            <a:ext cx="1117440" cy="1741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79960" y="2830680"/>
            <a:ext cx="1393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965920" y="2104920"/>
            <a:ext cx="869760" cy="711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68960" y="1103400"/>
            <a:ext cx="594000" cy="1450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565200" y="3446640"/>
          <a:ext cx="1608120" cy="39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200" y="3446640"/>
                    <a:ext cx="16081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"/>
          <p:cNvGraphicFramePr/>
          <p:nvPr/>
        </p:nvGraphicFramePr>
        <p:xfrm>
          <a:off x="2820960" y="3446640"/>
          <a:ext cx="1654200" cy="390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20960" y="3446640"/>
                    <a:ext cx="16542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"/>
          <p:cNvGraphicFramePr/>
          <p:nvPr/>
        </p:nvGraphicFramePr>
        <p:xfrm>
          <a:off x="5229360" y="3384720"/>
          <a:ext cx="3147840" cy="572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29360" y="3384720"/>
                    <a:ext cx="31478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585720" y="4221000"/>
          <a:ext cx="1654200" cy="39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5720" y="4221000"/>
                    <a:ext cx="1654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2701800" y="4159080"/>
          <a:ext cx="2872080" cy="574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01800" y="4159080"/>
                    <a:ext cx="28720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419040" y="4753080"/>
          <a:ext cx="3171960" cy="101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9040" y="4753080"/>
                    <a:ext cx="3171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203720" y="4753080"/>
          <a:ext cx="1654200" cy="1011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03720" y="4753080"/>
                    <a:ext cx="1654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8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6735600" y="496584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8"/>
          <a:stretch/>
        </p:blipFill>
        <p:spPr>
          <a:xfrm>
            <a:off x="5815080" y="923760"/>
            <a:ext cx="2925720" cy="1513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319320" y="950040"/>
            <a:ext cx="487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 AB is divided into 3 equal parts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ints C and D, as show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nd B have co-ordinates (3, –1, 2) and (9, 2, –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components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co-ordinates of C and 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3041640" y="1897200"/>
          <a:ext cx="3762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1640" y="1897200"/>
                    <a:ext cx="3762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2577960" y="34027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3952800" y="1892160"/>
          <a:ext cx="36504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0" y="1892160"/>
                    <a:ext cx="3650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1166760" y="2982960"/>
          <a:ext cx="126360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66760" y="298296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2932200" y="2716200"/>
          <a:ext cx="1147680" cy="101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32200" y="2716200"/>
                    <a:ext cx="11476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4578480" y="2700360"/>
          <a:ext cx="2019240" cy="101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8480" y="2700360"/>
                    <a:ext cx="2019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445680" y="2994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4960" y="41497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977040" y="4199040"/>
            <a:ext cx="3408480" cy="372960"/>
            <a:chOff x="977040" y="4199040"/>
            <a:chExt cx="3408480" cy="372960"/>
          </a:xfrm>
        </p:grpSpPr>
        <p:sp>
          <p:nvSpPr>
            <p:cNvPr id="812" name=""/>
            <p:cNvSpPr/>
            <p:nvPr/>
          </p:nvSpPr>
          <p:spPr>
            <a:xfrm>
              <a:off x="977040" y="4203720"/>
              <a:ext cx="34084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 is a displacement of         from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3" name=""/>
            <p:cNvGraphicFramePr/>
            <p:nvPr/>
          </p:nvGraphicFramePr>
          <p:xfrm>
            <a:off x="3166920" y="4199040"/>
            <a:ext cx="411480" cy="333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66920" y="4199040"/>
                      <a:ext cx="41148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5" name=""/>
          <p:cNvGraphicFramePr/>
          <p:nvPr/>
        </p:nvGraphicFramePr>
        <p:xfrm>
          <a:off x="4627440" y="3873600"/>
          <a:ext cx="1538280" cy="101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27440" y="3873600"/>
                    <a:ext cx="1538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470640" y="4165560"/>
          <a:ext cx="162864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0640" y="4165560"/>
                    <a:ext cx="162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983160" y="5018040"/>
            <a:ext cx="99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2324160" y="4710240"/>
          <a:ext cx="1469880" cy="1011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24160" y="4710240"/>
                    <a:ext cx="14698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4287960" y="5068800"/>
          <a:ext cx="1812960" cy="36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7960" y="5068800"/>
                    <a:ext cx="1812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2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>
            <a:off x="6953400" y="4384800"/>
            <a:ext cx="618840" cy="6188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8"/>
          <a:stretch/>
        </p:blipFill>
        <p:spPr>
          <a:xfrm>
            <a:off x="6966000" y="1020600"/>
            <a:ext cx="1876320" cy="11527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310320" y="976680"/>
            <a:ext cx="682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to a suitable set of axes, the tops of three chimneys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ordinates given by A(1, 3, 2), B(2, –1, 4) and C(4, –9, 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A, B and C are collin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717480" y="2678040"/>
          <a:ext cx="12636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7480" y="26780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2482920" y="2411280"/>
          <a:ext cx="114768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2920" y="2411280"/>
                    <a:ext cx="11476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4222800" y="2425680"/>
          <a:ext cx="2063880" cy="101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22800" y="2425680"/>
                    <a:ext cx="20638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649440" y="3795840"/>
          <a:ext cx="1309680" cy="436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9440" y="3795840"/>
                    <a:ext cx="1309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"/>
          <p:cNvSpPr/>
          <p:nvPr/>
        </p:nvSpPr>
        <p:spPr>
          <a:xfrm>
            <a:off x="2060280" y="384660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A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8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"/>
          <a:stretch/>
        </p:blipFill>
        <p:spPr>
          <a:xfrm>
            <a:off x="7227720" y="50245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12120" y="848160"/>
            <a:ext cx="6383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s the point (2, –5, 6),  B is (6, –3, 4)  and  C is (12, 0, 1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that A, B and C are col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determine the ratio in which B divides 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17480" y="2678040"/>
          <a:ext cx="1263600" cy="3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7480" y="2678040"/>
                    <a:ext cx="12636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2428920" y="2411280"/>
          <a:ext cx="1927080" cy="101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28920" y="2411280"/>
                    <a:ext cx="19270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046840" y="2425680"/>
          <a:ext cx="192564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6840" y="2425680"/>
                    <a:ext cx="19256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660240" y="3795840"/>
          <a:ext cx="1285920" cy="436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60240" y="3795840"/>
                    <a:ext cx="12859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2133360" y="383220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B is common.  A, B, C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847800" y="4603680"/>
          <a:ext cx="961920" cy="803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47800" y="4603680"/>
                    <a:ext cx="96192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3" name=""/>
          <p:cNvGrpSpPr/>
          <p:nvPr/>
        </p:nvGrpSpPr>
        <p:grpSpPr>
          <a:xfrm>
            <a:off x="2230920" y="4508640"/>
            <a:ext cx="2792880" cy="922320"/>
            <a:chOff x="2230920" y="4508640"/>
            <a:chExt cx="2792880" cy="922320"/>
          </a:xfrm>
        </p:grpSpPr>
        <p:sp>
          <p:nvSpPr>
            <p:cNvPr id="874" name=""/>
            <p:cNvSpPr/>
            <p:nvPr/>
          </p:nvSpPr>
          <p:spPr>
            <a:xfrm flipV="1">
              <a:off x="2438640" y="4862160"/>
              <a:ext cx="2322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65560" y="531180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86480" y="480204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1960" y="5076720"/>
              <a:ext cx="118800" cy="119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0920" y="4987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40440" y="472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7856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35360" y="485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84480" y="45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067280" y="525312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 divides AB in ratio 2 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885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6805440" y="4892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1994-1%20Q%204" descr=""/>
          <p:cNvPicPr/>
          <p:nvPr/>
        </p:nvPicPr>
        <p:blipFill>
          <a:blip r:embed="rId8"/>
          <a:stretch/>
        </p:blipFill>
        <p:spPr>
          <a:xfrm>
            <a:off x="5126040" y="1090440"/>
            <a:ext cx="3630600" cy="119556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398520" y="907920"/>
            <a:ext cx="47498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the top of a hill, three gl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sitions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–1, –8, –2),    S(2, –5, 4)   and   T(3, –4, 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that R, S and T are colline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766800" y="3141720"/>
          <a:ext cx="119376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6800" y="3141720"/>
                    <a:ext cx="1193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2540160" y="2874960"/>
          <a:ext cx="1674720" cy="101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0160" y="2874960"/>
                    <a:ext cx="16747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"/>
          <p:cNvGraphicFramePr/>
          <p:nvPr/>
        </p:nvGraphicFramePr>
        <p:xfrm>
          <a:off x="5033880" y="2874960"/>
          <a:ext cx="1719360" cy="101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33880" y="2874960"/>
                    <a:ext cx="1719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696960" y="4259160"/>
          <a:ext cx="1239840" cy="436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6960" y="4259160"/>
                    <a:ext cx="12398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2147040" y="4295880"/>
            <a:ext cx="611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scalar multiples, so are parallel.  R is common.  R, S, T are colli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2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estions are in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1760" y="4657680"/>
            <a:ext cx="37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gles between vectors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7120" y="46069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71760" y="351648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ints dividing lines in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llinear point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27120" y="354024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60600" y="26067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al vector questions (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6320" y="25160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269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gle between two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rId3" action="ppaction://hlinksldjump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7039080" y="4863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69720" y="1074240"/>
            <a:ext cx="48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agram shows vector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| = 5, 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| = 4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the size of the acut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990720"/>
                <a:tab algn="l" pos="1371600"/>
                <a:tab algn="r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ween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7"/>
          <a:stretch/>
        </p:blipFill>
        <p:spPr>
          <a:xfrm>
            <a:off x="6337440" y="1008000"/>
            <a:ext cx="198432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1" name=""/>
          <p:cNvGraphicFramePr/>
          <p:nvPr/>
        </p:nvGraphicFramePr>
        <p:xfrm>
          <a:off x="679320" y="2970360"/>
          <a:ext cx="1582920" cy="87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9320" y="2970360"/>
                    <a:ext cx="15829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3267000" y="3116160"/>
          <a:ext cx="425304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67000" y="3116160"/>
                    <a:ext cx="42530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793800" y="4054320"/>
          <a:ext cx="2085840" cy="54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3800" y="4054320"/>
                    <a:ext cx="2085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3255840" y="4064040"/>
          <a:ext cx="230364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55840" y="4064040"/>
                    <a:ext cx="2303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6205680" y="4078440"/>
          <a:ext cx="1625400" cy="43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5680" y="4078440"/>
                    <a:ext cx="162540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868320" y="4862520"/>
          <a:ext cx="1582920" cy="77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68320" y="4862520"/>
                    <a:ext cx="15829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2978280" y="4838760"/>
          <a:ext cx="2033280" cy="853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78280" y="4838760"/>
                    <a:ext cx="20332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5342040" y="5060880"/>
          <a:ext cx="12049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42040" y="5060880"/>
                    <a:ext cx="12049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58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5297400" y="51973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7"/>
          <a:stretch/>
        </p:blipFill>
        <p:spPr>
          <a:xfrm>
            <a:off x="6365880" y="917640"/>
            <a:ext cx="2390760" cy="210492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34920" y="883080"/>
            <a:ext cx="642924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agram shows a square based pyramid of height 8 un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OABC has a side length of 6 un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-ordinates of A and D are (6, 0, 0) and (3, 3,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lies on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down the co-ordinates of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components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the size of angle AD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3613320" y="2349360"/>
          <a:ext cx="1201680" cy="34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13320" y="2349360"/>
                    <a:ext cx="12016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402840" y="3265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39600" y="32446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(6, 6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941920" y="3271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544920" y="3021120"/>
          <a:ext cx="1146240" cy="101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44920" y="3021120"/>
                    <a:ext cx="11462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5159520" y="3021120"/>
          <a:ext cx="1170000" cy="101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59520" y="3021120"/>
                    <a:ext cx="11700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"/>
          <p:cNvSpPr/>
          <p:nvPr/>
        </p:nvSpPr>
        <p:spPr>
          <a:xfrm>
            <a:off x="402840" y="4192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2" name=""/>
          <p:cNvGraphicFramePr/>
          <p:nvPr/>
        </p:nvGraphicFramePr>
        <p:xfrm>
          <a:off x="998640" y="3943440"/>
          <a:ext cx="2135160" cy="1055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98640" y="3943440"/>
                    <a:ext cx="21351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4" name=""/>
          <p:cNvGraphicFramePr/>
          <p:nvPr/>
        </p:nvGraphicFramePr>
        <p:xfrm>
          <a:off x="3524400" y="3976560"/>
          <a:ext cx="1971360" cy="1011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524400" y="3976560"/>
                    <a:ext cx="1971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5884920" y="3929040"/>
          <a:ext cx="2703600" cy="1017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84920" y="3929040"/>
                    <a:ext cx="27036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990720" y="5175360"/>
          <a:ext cx="1900080" cy="755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90720" y="5175360"/>
                    <a:ext cx="19000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3630600" y="5364000"/>
          <a:ext cx="1214280" cy="320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30600" y="5364000"/>
                    <a:ext cx="121428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993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5848200" y="4937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600960" y="777960"/>
            <a:ext cx="2249280" cy="26208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40560" y="840240"/>
            <a:ext cx="63392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box in the shape of a cuboid designed with circles of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zes on each 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hree of the circles, where the origin repres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of the corners of the cubo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entres of the circles are A(6, 0, 7), B(0, 5, 6) and C(4, 5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d the size of angle AB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2617920" y="2892600"/>
          <a:ext cx="1031760" cy="105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17920" y="2892600"/>
                    <a:ext cx="1031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3948120" y="2863800"/>
          <a:ext cx="1069920" cy="105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48120" y="2863800"/>
                    <a:ext cx="1069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"/>
          <p:cNvSpPr/>
          <p:nvPr/>
        </p:nvSpPr>
        <p:spPr>
          <a:xfrm>
            <a:off x="488520" y="3041640"/>
            <a:ext cx="1797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 to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way from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5487840" y="3452760"/>
          <a:ext cx="3138480" cy="5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87840" y="3452760"/>
                    <a:ext cx="31384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554040" y="4145040"/>
          <a:ext cx="2948040" cy="56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040" y="4145040"/>
                    <a:ext cx="2948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4232160" y="4145040"/>
          <a:ext cx="2617920" cy="56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32160" y="4145040"/>
                    <a:ext cx="2617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736560" y="4956120"/>
          <a:ext cx="2109960" cy="83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6560" y="4956120"/>
                    <a:ext cx="21099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3943440" y="5194440"/>
          <a:ext cx="1206360" cy="352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43440" y="5194440"/>
                    <a:ext cx="1206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22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6792840" y="571968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/>
          <p:nvPr/>
        </p:nvSpPr>
        <p:spPr>
          <a:xfrm>
            <a:off x="349200" y="909360"/>
            <a:ext cx="62708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boid measuring  11cm  by  5 cm  by  7 c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laced centrally on top of another cuboid measuring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m  by  9  cm  by  8 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e axes are taken as sh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The point A has co-ordinates (0, 9, 8)  and C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es (17, 0, 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 down the co-ordinates of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Calculate the size of angle AB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2000-2%20Q%209" descr=""/>
          <p:cNvPicPr/>
          <p:nvPr/>
        </p:nvPicPr>
        <p:blipFill>
          <a:blip r:embed="rId7"/>
          <a:srcRect l="0" t="0" r="57858" b="0"/>
          <a:stretch/>
        </p:blipFill>
        <p:spPr>
          <a:xfrm>
            <a:off x="6721560" y="843120"/>
            <a:ext cx="2023920" cy="1947600"/>
          </a:xfrm>
          <a:prstGeom prst="rect">
            <a:avLst/>
          </a:prstGeom>
          <a:ln w="0">
            <a:noFill/>
          </a:ln>
        </p:spPr>
      </p:pic>
      <p:pic>
        <p:nvPicPr>
          <p:cNvPr id="1035" name="2000-2%20Q%209" descr=""/>
          <p:cNvPicPr/>
          <p:nvPr/>
        </p:nvPicPr>
        <p:blipFill>
          <a:blip r:embed="rId8"/>
          <a:srcRect l="42037" t="0" r="0" b="0"/>
          <a:stretch/>
        </p:blipFill>
        <p:spPr>
          <a:xfrm>
            <a:off x="6261120" y="2687760"/>
            <a:ext cx="263196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6" name=""/>
          <p:cNvGraphicFramePr/>
          <p:nvPr/>
        </p:nvGraphicFramePr>
        <p:xfrm>
          <a:off x="1008000" y="3584520"/>
          <a:ext cx="15001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8000" y="3584520"/>
                    <a:ext cx="150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431280" y="3570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13480" y="359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4897440" y="3343320"/>
          <a:ext cx="1031760" cy="105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97440" y="3343320"/>
                    <a:ext cx="10317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498840" y="3328920"/>
          <a:ext cx="1069920" cy="105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8840" y="3328920"/>
                    <a:ext cx="1069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878040" y="4425840"/>
          <a:ext cx="322884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78040" y="4425840"/>
                    <a:ext cx="3228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4836960" y="4437000"/>
          <a:ext cx="3210120" cy="54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36960" y="4437000"/>
                    <a:ext cx="3210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706320" y="5145120"/>
          <a:ext cx="3027600" cy="55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320" y="5145120"/>
                    <a:ext cx="30276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3970440" y="5029200"/>
          <a:ext cx="2074680" cy="722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70440" y="5029200"/>
                    <a:ext cx="20746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6554880" y="5237280"/>
          <a:ext cx="1049400" cy="306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54880" y="5237280"/>
                    <a:ext cx="1049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6357960" y="941400"/>
            <a:ext cx="2443320" cy="2103480"/>
          </a:xfrm>
          <a:prstGeom prst="rect">
            <a:avLst/>
          </a:prstGeom>
          <a:ln w="0">
            <a:noFill/>
          </a:ln>
        </p:spPr>
      </p:pic>
      <p:grpSp>
        <p:nvGrpSpPr>
          <p:cNvPr id="105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5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3"/>
          <a:stretch/>
        </p:blipFill>
        <p:spPr>
          <a:xfrm>
            <a:off x="6865920" y="56037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0640" y="928800"/>
            <a:ext cx="64292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riangle ABC has vertices  A(2, –1, 3), B(3, 6, 5) and C(6, 6, –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             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 the size of angle BA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ce find the area of the triang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1336680" y="1378080"/>
          <a:ext cx="496800" cy="387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6680" y="1378080"/>
                    <a:ext cx="496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2424240" y="1374840"/>
          <a:ext cx="52056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24240" y="1374840"/>
                    <a:ext cx="5205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885960" y="2614680"/>
          <a:ext cx="1576080" cy="105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85960" y="2614680"/>
                    <a:ext cx="15760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"/>
          <p:cNvSpPr/>
          <p:nvPr/>
        </p:nvSpPr>
        <p:spPr>
          <a:xfrm>
            <a:off x="418680" y="290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2857680" y="2614680"/>
          <a:ext cx="1707840" cy="105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57680" y="2614680"/>
                    <a:ext cx="17078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417960" y="39164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947880" y="3917880"/>
          <a:ext cx="243828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47880" y="3917880"/>
                    <a:ext cx="2438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"/>
          <p:cNvGraphicFramePr/>
          <p:nvPr/>
        </p:nvGraphicFramePr>
        <p:xfrm>
          <a:off x="3760920" y="3913200"/>
          <a:ext cx="1068120" cy="45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760920" y="3913200"/>
                    <a:ext cx="10681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"/>
          <p:cNvGraphicFramePr/>
          <p:nvPr/>
        </p:nvGraphicFramePr>
        <p:xfrm>
          <a:off x="5149800" y="3905280"/>
          <a:ext cx="2379600" cy="357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49800" y="3905280"/>
                    <a:ext cx="2379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"/>
          <p:cNvGraphicFramePr/>
          <p:nvPr/>
        </p:nvGraphicFramePr>
        <p:xfrm>
          <a:off x="960480" y="4414680"/>
          <a:ext cx="2549520" cy="658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60480" y="4414680"/>
                    <a:ext cx="25495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6" name=""/>
          <p:cNvGraphicFramePr/>
          <p:nvPr/>
        </p:nvGraphicFramePr>
        <p:xfrm>
          <a:off x="3838680" y="4538520"/>
          <a:ext cx="2390760" cy="358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38680" y="4538520"/>
                    <a:ext cx="23907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6375960" y="4514760"/>
            <a:ext cx="1725120" cy="368280"/>
            <a:chOff x="6375960" y="4514760"/>
            <a:chExt cx="1725120" cy="368280"/>
          </a:xfrm>
        </p:grpSpPr>
        <p:graphicFrame>
          <p:nvGraphicFramePr>
            <p:cNvPr id="1089" name=""/>
            <p:cNvGraphicFramePr/>
            <p:nvPr/>
          </p:nvGraphicFramePr>
          <p:xfrm>
            <a:off x="7423200" y="4556160"/>
            <a:ext cx="677880" cy="31896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7423200" y="4556160"/>
                      <a:ext cx="67788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6375960" y="45147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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BAC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680" y="5229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34280" y="5267160"/>
            <a:ext cx="184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2989440" y="5178600"/>
          <a:ext cx="1071360" cy="537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989440" y="5178600"/>
                    <a:ext cx="107136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"/>
          <p:cNvGraphicFramePr/>
          <p:nvPr/>
        </p:nvGraphicFramePr>
        <p:xfrm>
          <a:off x="4206960" y="5153040"/>
          <a:ext cx="2035080" cy="5382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06960" y="5153040"/>
                    <a:ext cx="2035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8" name=""/>
          <p:cNvGraphicFramePr/>
          <p:nvPr/>
        </p:nvGraphicFramePr>
        <p:xfrm>
          <a:off x="6381720" y="5203800"/>
          <a:ext cx="1349280" cy="3668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381720" y="5203800"/>
                    <a:ext cx="1349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08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completed al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questions in thi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rId1" action="ppaction://hlinksldjump"/>
          </p:cNvPr>
          <p:cNvSpPr/>
          <p:nvPr/>
        </p:nvSpPr>
        <p:spPr>
          <a:xfrm>
            <a:off x="7450200" y="5872320"/>
            <a:ext cx="1160280" cy="341280"/>
          </a:xfrm>
          <a:custGeom>
            <a:avLst/>
            <a:gdLst>
              <a:gd name="textAreaLeft" fmla="*/ 203040 w 1160280"/>
              <a:gd name="textAreaRight" fmla="*/ 841320 w 11602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386480" y="63435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>
            <a:hlinkClick r:id="" action="ppaction://hlinkshowjump?jump=endshow"/>
          </p:cNvPr>
          <p:cNvSpPr/>
          <p:nvPr/>
        </p:nvSpPr>
        <p:spPr>
          <a:xfrm>
            <a:off x="4313160" y="6122880"/>
            <a:ext cx="531720" cy="532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85820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23120" y="6237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8247240" y="5889600"/>
            <a:ext cx="576000" cy="77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0" name=""/>
          <p:cNvGraphicFramePr/>
          <p:nvPr/>
        </p:nvGraphicFramePr>
        <p:xfrm>
          <a:off x="1698480" y="1682640"/>
          <a:ext cx="5827680" cy="3835440"/>
        </p:xfrm>
        <a:graphic>
          <a:graphicData uri="http://schemas.openxmlformats.org/drawingml/2006/table">
            <a:tbl>
              <a:tblPr/>
              <a:tblGrid>
                <a:gridCol w="1456920"/>
                <a:gridCol w="1456920"/>
                <a:gridCol w="1456560"/>
                <a:gridCol w="14572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3695760" y="2463840"/>
          <a:ext cx="312840" cy="74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5760" y="2463840"/>
                    <a:ext cx="312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5175360" y="2449440"/>
          <a:ext cx="312480" cy="7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75360" y="2449440"/>
                    <a:ext cx="3124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6599160" y="2449440"/>
          <a:ext cx="312840" cy="7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99160" y="2449440"/>
                    <a:ext cx="31284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"/>
          <p:cNvGraphicFramePr/>
          <p:nvPr/>
        </p:nvGraphicFramePr>
        <p:xfrm>
          <a:off x="6667560" y="3997440"/>
          <a:ext cx="288720" cy="745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67560" y="39974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3722760" y="3230640"/>
          <a:ext cx="288720" cy="74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22760" y="3230640"/>
                    <a:ext cx="2887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6529320" y="3220920"/>
          <a:ext cx="455760" cy="77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29320" y="3220920"/>
                    <a:ext cx="45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"/>
          <p:cNvGraphicFramePr/>
          <p:nvPr/>
        </p:nvGraphicFramePr>
        <p:xfrm>
          <a:off x="3625920" y="4002120"/>
          <a:ext cx="455400" cy="77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25920" y="4002120"/>
                    <a:ext cx="4554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5121360" y="3219480"/>
          <a:ext cx="477720" cy="750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21360" y="3219480"/>
                    <a:ext cx="4777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7" name=""/>
          <p:cNvGraphicFramePr/>
          <p:nvPr/>
        </p:nvGraphicFramePr>
        <p:xfrm>
          <a:off x="5121360" y="4000680"/>
          <a:ext cx="477720" cy="750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21360" y="4000680"/>
                    <a:ext cx="477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"/>
          <p:cNvGraphicFramePr/>
          <p:nvPr/>
        </p:nvGraphicFramePr>
        <p:xfrm>
          <a:off x="3666960" y="4754520"/>
          <a:ext cx="455760" cy="750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4754520"/>
                    <a:ext cx="455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"/>
          <p:cNvGraphicFramePr/>
          <p:nvPr/>
        </p:nvGraphicFramePr>
        <p:xfrm>
          <a:off x="6539040" y="4842000"/>
          <a:ext cx="556920" cy="556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39040" y="4842000"/>
                    <a:ext cx="5569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"/>
          <p:cNvSpPr/>
          <p:nvPr/>
        </p:nvSpPr>
        <p:spPr>
          <a:xfrm>
            <a:off x="0" y="97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exac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>
            <a:hlinkClick r:id="" action="ppaction://hlinkshowjump?jump=previousslide"/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9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l Vector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16160" y="4567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8800" y="38196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/>
          </p:cNvPr>
          <p:cNvSpPr/>
          <p:nvPr/>
        </p:nvSpPr>
        <p:spPr>
          <a:xfrm>
            <a:off x="7510320" y="5889600"/>
            <a:ext cx="1100160" cy="324000"/>
          </a:xfrm>
          <a:custGeom>
            <a:avLst/>
            <a:gdLst>
              <a:gd name="textAreaLeft" fmla="*/ 192240 w 1100160"/>
              <a:gd name="textAreaRight" fmla="*/ 797760 w 1100160"/>
              <a:gd name="textAreaTop" fmla="*/ 43200 h 324000"/>
              <a:gd name="textAreaBottom" fmla="*/ 28080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5760" y="634356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ck to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75480" y="4210200"/>
            <a:ext cx="619200" cy="61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0960" y="995760"/>
            <a:ext cx="722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by                       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whether or no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re perpendicular to each ot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76560" y="1060560"/>
          <a:ext cx="115416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76560" y="1060560"/>
                    <a:ext cx="11541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938920" y="1054080"/>
          <a:ext cx="164448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8920" y="1054080"/>
                    <a:ext cx="16444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7880" y="2292480"/>
            <a:ext cx="25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60840" y="1887480"/>
          <a:ext cx="1768320" cy="119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60840" y="1887480"/>
                    <a:ext cx="17683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05040" y="3548160"/>
          <a:ext cx="350964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05040" y="3548160"/>
                    <a:ext cx="35096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199120" y="3471840"/>
          <a:ext cx="3046320" cy="542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199120" y="3471840"/>
                    <a:ext cx="3046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081160" y="4343400"/>
          <a:ext cx="97956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81160" y="4343400"/>
                    <a:ext cx="979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924000" y="435456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ence vectors are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9560" y="48783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hlinkshowjump?jump=previous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5920" y="115488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what value of  t  are the vectors                   and                    perpendicular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44800" y="912960"/>
          <a:ext cx="855720" cy="91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4800" y="912960"/>
                    <a:ext cx="85572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84800" y="887400"/>
          <a:ext cx="828720" cy="94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0" y="887400"/>
                    <a:ext cx="8287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97880" y="2292480"/>
            <a:ext cx="2655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Scalar product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606840" y="1887480"/>
          <a:ext cx="1876320" cy="119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06840" y="1887480"/>
                    <a:ext cx="18763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54000" y="3465360"/>
          <a:ext cx="3265560" cy="54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54000" y="3465360"/>
                    <a:ext cx="326556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229360" y="3495600"/>
          <a:ext cx="223020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29360" y="3495600"/>
                    <a:ext cx="2230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36040" y="4314960"/>
            <a:ext cx="290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pendicula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u.v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14720" y="4262400"/>
          <a:ext cx="1986120" cy="43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14720" y="4262400"/>
                    <a:ext cx="1986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395960" y="4941720"/>
          <a:ext cx="122364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95960" y="4941720"/>
                    <a:ext cx="1223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6532" t="6725" r="6038" b="5454"/>
          <a:stretch/>
        </p:blipFill>
        <p:spPr>
          <a:xfrm>
            <a:off x="5675400" y="673200"/>
            <a:ext cx="2950920" cy="24415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545160" y="531504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hlinkshowjump?jump=previous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6840" y="840240"/>
            <a:ext cx="4940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BCD is a pyramid with rectangular base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ctors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             in component for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2520" y="1214280"/>
          <a:ext cx="1638360" cy="3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2520" y="1214280"/>
                    <a:ext cx="1638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41520" y="1614600"/>
          <a:ext cx="154476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1520" y="1614600"/>
                    <a:ext cx="15447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11280" y="1976400"/>
          <a:ext cx="178272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11280" y="1976400"/>
                    <a:ext cx="17827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11280" y="2349360"/>
          <a:ext cx="1479600" cy="33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11280" y="2349360"/>
                    <a:ext cx="1479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370160" y="2744640"/>
          <a:ext cx="412560" cy="33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70160" y="2744640"/>
                    <a:ext cx="412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062160" y="3316320"/>
          <a:ext cx="193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62160" y="3316320"/>
                    <a:ext cx="193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523200" y="3279600"/>
          <a:ext cx="2301840" cy="471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23200" y="3279600"/>
                    <a:ext cx="23018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842080" y="3840120"/>
          <a:ext cx="121284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42080" y="3840120"/>
                    <a:ext cx="1212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086280" y="3892680"/>
          <a:ext cx="1881000" cy="420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86280" y="3892680"/>
                    <a:ext cx="1881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 flipV="1">
            <a:off x="6850080" y="1510920"/>
            <a:ext cx="609480" cy="1249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7170480" y="946080"/>
            <a:ext cx="274680" cy="58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35680" y="917640"/>
            <a:ext cx="319320" cy="1812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3360" y="3324240"/>
            <a:ext cx="2265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triangle rule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C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5240" y="3336840"/>
            <a:ext cx="1227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-ar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50080" y="2019240"/>
            <a:ext cx="1495440" cy="741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7459200" y="1526760"/>
            <a:ext cx="885960" cy="477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0080" y="1526760"/>
            <a:ext cx="609480" cy="1219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960" y="3943440"/>
            <a:ext cx="2247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angle rule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0040" y="3894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44400" y="4657680"/>
          <a:ext cx="2914920" cy="527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4400" y="4657680"/>
                    <a:ext cx="29149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819600" y="4410000"/>
          <a:ext cx="2390760" cy="1008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19600" y="4410000"/>
                    <a:ext cx="2390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424560" y="4410000"/>
          <a:ext cx="1384200" cy="1008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24560" y="4410000"/>
                    <a:ext cx="1384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544760" y="5396040"/>
          <a:ext cx="3012840" cy="474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44760" y="5396040"/>
                    <a:ext cx="30128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99160" y="892080"/>
            <a:ext cx="217512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7359480" y="45450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>
            <a:hlinkClick r:id="" action="ppaction://hlinkshowjump?jump=previous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3920" y="881280"/>
            <a:ext cx="67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diagram shows two vectors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 with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 = 3 and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 = 2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se vectors are inclined at an angle of 45°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   Eval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.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b.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.b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   Another vector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is defined b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609480"/>
                <a:tab algn="l" pos="6248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valuate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and hence write down 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|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747960" y="2573280"/>
          <a:ext cx="1109880" cy="30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2573280"/>
                    <a:ext cx="110988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988920" y="3352680"/>
          <a:ext cx="2055960" cy="47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88920" y="3352680"/>
                    <a:ext cx="2055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130560" y="3386160"/>
          <a:ext cx="167148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3386160"/>
                    <a:ext cx="167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788080" y="3314880"/>
          <a:ext cx="2055600" cy="40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88080" y="3314880"/>
                    <a:ext cx="20556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8078760" y="3381480"/>
          <a:ext cx="430200" cy="333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78760" y="3381480"/>
                    <a:ext cx="430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015920" y="4005360"/>
          <a:ext cx="2175120" cy="47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15920" y="4005360"/>
                    <a:ext cx="21751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336840" y="3851280"/>
          <a:ext cx="2367000" cy="7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36840" y="3851280"/>
                    <a:ext cx="23670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30920" y="33526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8840" y="3338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760" y="402912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760" y="48690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7600" y="4811760"/>
          <a:ext cx="313236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7600" y="4811760"/>
                    <a:ext cx="3132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471920" y="4829040"/>
          <a:ext cx="2749680" cy="382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71920" y="4829040"/>
                    <a:ext cx="27496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979560" y="5342040"/>
          <a:ext cx="1863720" cy="382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79560" y="5342040"/>
                    <a:ext cx="18637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905200" y="5343480"/>
          <a:ext cx="860400" cy="3826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905200" y="5343480"/>
                    <a:ext cx="8604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902400" y="5322960"/>
            <a:ext cx="1461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518080" y="5256360"/>
          <a:ext cx="2341800" cy="501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518080" y="5256360"/>
                    <a:ext cx="23418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8153280" y="4952880"/>
            <a:ext cx="551160" cy="848520"/>
            <a:chOff x="8153280" y="4952880"/>
            <a:chExt cx="551160" cy="84852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8153280" y="4952880"/>
              <a:ext cx="5241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162640" y="546408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>
            <a:hlinkClick r:id="" action="ppaction://hlinkshowjump?jump=endshow"/>
          </p:cNvPr>
          <p:cNvSpPr/>
          <p:nvPr/>
        </p:nvSpPr>
        <p:spPr>
          <a:xfrm>
            <a:off x="4325760" y="6056280"/>
            <a:ext cx="532080" cy="5317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116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6170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38760" y="5891040"/>
            <a:ext cx="595440" cy="79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966000" y="43401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4000" y="333360"/>
            <a:ext cx="84960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s                                                                                                       Hig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8040" y="60228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41400" y="6159600"/>
            <a:ext cx="11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16720" y="61945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56600" y="602604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920" y="1127160"/>
            <a:ext cx="530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defin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ress                      in componen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culate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p.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d |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108320" y="1170000"/>
          <a:ext cx="4187880" cy="30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08320" y="1170000"/>
                    <a:ext cx="41878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941480" y="1522440"/>
          <a:ext cx="98892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41480" y="1522440"/>
                    <a:ext cx="988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63760" y="2954160"/>
          <a:ext cx="988920" cy="30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63760" y="2954160"/>
                    <a:ext cx="988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670120" y="2916360"/>
          <a:ext cx="3413160" cy="38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70120" y="2916360"/>
                    <a:ext cx="3413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400800" y="2941560"/>
          <a:ext cx="1434960" cy="304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00800" y="2941560"/>
                    <a:ext cx="14349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78240" y="29336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600" y="36878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50800" y="3706920"/>
          <a:ext cx="2579760" cy="380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50800" y="3706920"/>
                    <a:ext cx="2579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8280" y="3730680"/>
          <a:ext cx="3335040" cy="3049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48280" y="3730680"/>
                    <a:ext cx="3335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7621560" y="3697200"/>
          <a:ext cx="1033560" cy="304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621560" y="3697200"/>
                    <a:ext cx="1033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78960" y="4525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4680" y="4470480"/>
          <a:ext cx="1668240" cy="438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444680" y="4470480"/>
                    <a:ext cx="1668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463920" y="4489560"/>
          <a:ext cx="2911320" cy="399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63920" y="4489560"/>
                    <a:ext cx="29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4:02:10Z</dcterms:created>
  <dc:creator>Derek Warburton</dc:creator>
  <dc:description/>
  <dc:language>en-US</dc:language>
  <cp:lastModifiedBy>Derek Warburton</cp:lastModifiedBy>
  <dcterms:modified xsi:type="dcterms:W3CDTF">2004-05-17T20:37:13Z</dcterms:modified>
  <cp:revision>245</cp:revision>
  <dc:subject/>
  <dc:title>PowerPoint Presentation</dc:title>
</cp:coreProperties>
</file>